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ct" ContentType="image/x-pict"/>
  <Override PartName="/ppt/media/image7.png" ContentType="image/png"/>
  <Override PartName="/ppt/media/image5.png" ContentType="image/png"/>
  <Override PartName="/ppt/media/image6.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607EB-CCAC-47BF-B832-44E73C8AF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E085C-C297-4135-9268-2C31BCD3B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30940-B1D3-4CF4-8BCD-2592396B0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AE123-14FB-4A26-8C0D-E6BE239F6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34C236-31AB-4D9D-9ECD-14D8C7911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A2EBA-9230-46C7-A2F1-E9B8083BB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FB616-B2F8-45F9-B60C-FDDD00DA2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B62CE-CF3D-44C7-80E4-0939A4A87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2C5DB-E028-4A87-A48F-2301015E4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05C0E-C4BE-410D-AECA-C817A1C2A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6A9D3-5D6A-4F0C-B6FD-8E46C1418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BBFE1-AEAB-4A4B-8B73-4A346D860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72C5E-27FC-42D1-8A52-23F0324F2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3EE0E-1F28-49C3-9947-B6E8B8CFA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42F21-051B-4048-8A7E-DB3C091C7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70468-A83E-4A7B-B399-D74DA348A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C37A0-8EA1-4375-B28C-86999E5A88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5943E-3B54-4CF8-A8B0-1B8F1A6D2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EEA73-DBBB-4FC7-B93D-7E5CC3686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7CDA8-4482-4B7C-AFB1-964555630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C5190-9510-485E-A30E-34A4C92F3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C77CC-FE61-4783-8A85-A0A14A078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B56F6-9275-4D6E-8BC6-CE9AF1DCE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2B320-7840-4F78-9328-C02467FCC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B348-1BD5-4932-8C22-B4CD34B192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8B6E-90FF-405C-8E5A-FBE0B1FCD3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28800" y="685800"/>
            <a:ext cx="6858000" cy="2666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800" spc="-1" strike="noStrike">
                <a:solidFill>
                  <a:srgbClr val="ffffff"/>
                </a:solidFill>
                <a:latin typeface="Tahoma"/>
              </a:rPr>
              <a:t>Teaching Reading and Writing to English Language Learners</a:t>
            </a:r>
            <a:br>
              <a:rPr sz="4400"/>
            </a:b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4219560"/>
            <a:ext cx="6400800" cy="14191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DEI</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Kathleen McInerney</a:t>
            </a:r>
            <a:endParaRPr b="0" lang="en-US" sz="2800" spc="-1" strike="noStrike">
              <a:solidFill>
                <a:srgbClr val="ffffff"/>
              </a:solidFill>
              <a:latin typeface="Arial"/>
            </a:endParaRPr>
          </a:p>
        </p:txBody>
      </p:sp>
      <p:pic>
        <p:nvPicPr>
          <p:cNvPr id="164" name="" descr=""/>
          <p:cNvPicPr/>
          <p:nvPr/>
        </p:nvPicPr>
        <p:blipFill>
          <a:blip r:embed="rId1"/>
          <a:stretch/>
        </p:blipFill>
        <p:spPr>
          <a:xfrm>
            <a:off x="6659640" y="3305160"/>
            <a:ext cx="1747800" cy="1693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est Practices in Second/Foreign Language Teaching</a:t>
            </a:r>
            <a:endParaRPr b="0" lang="en-US" sz="40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 instruction is designed to engage learners as active users of the target languag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 instruction engages learners in authentic, real-world language us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 instruction is strategies-based</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 instruction incorporates collaborative learn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est Practices (continued)</a:t>
            </a:r>
            <a:endParaRPr b="0" lang="en-US" sz="40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nglish Language learners need a caring learning environment in which risk-taking is encourag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eachers need to develop lessons that address learning styles and multip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intellig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y authentic and meaningful literacy tasks?</a:t>
            </a:r>
            <a:endParaRPr b="0" lang="en-US" sz="4800" spc="-1" strike="noStrike">
              <a:solidFill>
                <a:srgbClr val="ffffff"/>
              </a:solidFill>
              <a:latin typeface="Arial"/>
            </a:endParaRPr>
          </a:p>
        </p:txBody>
      </p:sp>
      <p:sp>
        <p:nvSpPr>
          <p:cNvPr id="185" name="PlaceHolder 2"/>
          <p:cNvSpPr>
            <a:spLocks noGrp="1"/>
          </p:cNvSpPr>
          <p:nvPr>
            <p:ph/>
          </p:nvPr>
        </p:nvSpPr>
        <p:spPr>
          <a:xfrm>
            <a:off x="457200" y="2133360"/>
            <a:ext cx="8229600" cy="43434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eracy research tells us that students learn best when instruction 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Student-center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eal worl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articipatory and collaborat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ontextualized (thematic)</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e authentic and meaningful literacy tasks? </a:t>
            </a:r>
            <a:endParaRPr b="0" lang="en-US" sz="40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 or school newsletters</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k, cd or movie reviews</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s</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ters to the editor</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published materials</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urnals</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cs</a:t>
            </a:r>
            <a:endParaRPr b="0" lang="en-US" sz="2800" spc="-1" strike="noStrike">
              <a:solidFill>
                <a:srgbClr val="ffffff"/>
              </a:solidFill>
              <a:latin typeface="Arial"/>
            </a:endParaRPr>
          </a:p>
          <a:p>
            <a:pPr marL="343080" indent="-343080">
              <a:lnSpc>
                <a:spcPct val="8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marL="343080" indent="-343080">
              <a:lnSpc>
                <a:spcPct val="8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oss-age tutoring</a:t>
            </a:r>
            <a:endParaRPr b="0" lang="en-US" sz="2800" spc="-1" strike="noStrike">
              <a:solidFill>
                <a:srgbClr val="ffffff"/>
              </a:solidFill>
              <a:latin typeface="Arial"/>
            </a:endParaRPr>
          </a:p>
          <a:p>
            <a:pPr marL="343080" indent="-343080">
              <a:lnSpc>
                <a:spcPct val="8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chosen projec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ing Writing Strategies</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writing strategies</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uring writing strategies</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st-writing strategi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writing Strategie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instorm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pp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logu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ing</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ing</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writing</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lin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uring Writing Strategies</a:t>
            </a: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read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sentence summaries for each paragraph</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ing “why?” after statement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colored markers to code main ideas and evidenc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er and teacher feedback</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analysi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t-Writing Strategies</a:t>
            </a: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analysi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back from peer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back from teacher</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rubric</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on</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on</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on (before final grading by 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ifferences between L1 and L2 writers</a:t>
            </a:r>
            <a:endParaRPr b="0" lang="en-US" sz="4000" spc="-1" strike="noStrike">
              <a:solidFill>
                <a:srgbClr val="ffffff"/>
              </a:solidFill>
              <a:latin typeface="Arial"/>
            </a:endParaRPr>
          </a:p>
        </p:txBody>
      </p:sp>
      <p:sp>
        <p:nvSpPr>
          <p:cNvPr id="197"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2 writers do less planning</a:t>
            </a:r>
            <a:endParaRPr b="0" lang="en-US" sz="3200" spc="-1" strike="noStrike">
              <a:solidFill>
                <a:srgbClr val="ffffff"/>
              </a:solidFill>
              <a:latin typeface="Arial"/>
            </a:endParaRPr>
          </a:p>
          <a:p>
            <a:pPr marL="339480" indent="-33948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2 writers are less fluent</a:t>
            </a:r>
            <a:endParaRPr b="0" lang="en-US" sz="3200" spc="-1" strike="noStrike">
              <a:solidFill>
                <a:srgbClr val="ffffff"/>
              </a:solidFill>
              <a:latin typeface="Arial"/>
            </a:endParaRPr>
          </a:p>
          <a:p>
            <a:pPr marL="339480" indent="-339480">
              <a:lnSpc>
                <a:spcPct val="8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2 writers are less accurate</a:t>
            </a:r>
            <a:endParaRPr b="0" lang="en-US" sz="3200" spc="-1" strike="noStrike">
              <a:solidFill>
                <a:srgbClr val="ffffff"/>
              </a:solidFill>
              <a:latin typeface="Arial"/>
            </a:endParaRPr>
          </a:p>
          <a:p>
            <a:pPr marL="339480" indent="-339480">
              <a:lnSpc>
                <a:spcPct val="8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2 writers are less effective in stating goals and organizing materials</a:t>
            </a:r>
            <a:endParaRPr b="0" lang="en-US" sz="3200" spc="-1" strike="noStrike">
              <a:solidFill>
                <a:srgbClr val="ffffff"/>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ilva, 199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2 Writers Need:</a:t>
            </a: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Planning strategies (pre-writing)</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Fluency practice (non-graded writing </a:t>
            </a:r>
            <a:r>
              <a:rPr b="0" lang="en-US" sz="3600" spc="-1" strike="noStrike">
                <a:solidFill>
                  <a:srgbClr val="ffffff"/>
                </a:solidFill>
                <a:latin typeface="Arial"/>
              </a:rPr>
              <a:t>	</a:t>
            </a:r>
            <a:r>
              <a:rPr b="0" lang="en-US" sz="3600" spc="-1" strike="noStrike">
                <a:solidFill>
                  <a:srgbClr val="ffffff"/>
                </a:solidFill>
                <a:latin typeface="Arial"/>
              </a:rPr>
              <a:t>opportunities)</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L2 writers are less accurate (editing   </a:t>
            </a:r>
            <a:r>
              <a:rPr b="0" lang="en-US" sz="3600" spc="-1" strike="noStrike">
                <a:solidFill>
                  <a:srgbClr val="ffffff"/>
                </a:solidFill>
                <a:latin typeface="Arial"/>
              </a:rPr>
              <a:t>	</a:t>
            </a:r>
            <a:r>
              <a:rPr b="0" lang="en-US" sz="3600" spc="-1" strike="noStrike">
                <a:solidFill>
                  <a:srgbClr val="ffffff"/>
                </a:solidFill>
                <a:latin typeface="Arial"/>
              </a:rPr>
              <a:t>practice and strategies)</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Organization strategi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77920"/>
            <a:ext cx="8305920" cy="482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800" spc="-1" strike="noStrike">
                <a:solidFill>
                  <a:srgbClr val="ffffff"/>
                </a:solidFill>
                <a:latin typeface="Arial"/>
              </a:rPr>
              <a:t>Goal 1: </a:t>
            </a:r>
            <a:br>
              <a:rPr sz="4800"/>
            </a:br>
            <a:r>
              <a:rPr b="0" lang="en-US" sz="4800" spc="-1" strike="noStrike">
                <a:solidFill>
                  <a:srgbClr val="ffffff"/>
                </a:solidFill>
                <a:latin typeface="Arial"/>
              </a:rPr>
              <a:t>Teachers will learn approaches to engage ELLs through authentic and meaningful literacy tasks</a:t>
            </a:r>
            <a:endParaRPr b="0" lang="en-US" sz="4800" spc="-1" strike="noStrike">
              <a:solidFill>
                <a:srgbClr val="ffffff"/>
              </a:solidFill>
              <a:latin typeface="Arial"/>
            </a:endParaRPr>
          </a:p>
        </p:txBody>
      </p:sp>
      <p:sp>
        <p:nvSpPr>
          <p:cNvPr id="166" name="PlaceHolder 2"/>
          <p:cNvSpPr>
            <a:spLocks noGrp="1"/>
          </p:cNvSpPr>
          <p:nvPr>
            <p:ph/>
          </p:nvPr>
        </p:nvSpPr>
        <p:spPr>
          <a:xfrm>
            <a:off x="457200" y="6400800"/>
            <a:ext cx="822960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ing Reading Strategies</a:t>
            </a:r>
            <a:endParaRPr b="0" lang="en-US"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ading strategi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reading strategi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reading strateg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reading Strategies</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mulate interes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background knowledg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text structure knowledg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purpose for reading</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appropriate reading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 for student choice</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KWL activ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uring Reading Strategies</a:t>
            </a: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diction activiti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er response journa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iprocal reading</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phic organizer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 collabor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t-Reading Activities</a:t>
            </a:r>
            <a:endParaRPr b="0" lang="en-US" sz="4400" spc="-1" strike="noStrike">
              <a:solidFill>
                <a:srgbClr val="ffff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phic organizers</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e arts response</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elling</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ize</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a letter to teacher or friend about reading</a:t>
            </a:r>
            <a:endParaRPr b="0" lang="en-US" sz="3200" spc="-1" strike="noStrike">
              <a:solidFill>
                <a:srgbClr val="ffffff"/>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a review of the reading</a:t>
            </a:r>
            <a:endParaRPr b="0" lang="en-US" sz="3200" spc="-1" strike="noStrike">
              <a:solidFill>
                <a:srgbClr val="ffffff"/>
              </a:solidFill>
              <a:latin typeface="Arial"/>
            </a:endParaRPr>
          </a:p>
          <a:p>
            <a:pPr marL="343080" indent="-34308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 an anthology of favorite reading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view: in small groups, write down answers to the following questions:</a:t>
            </a:r>
            <a:endParaRPr b="0" lang="en-US" sz="4000" spc="-1" strike="noStrike">
              <a:solidFill>
                <a:srgbClr val="ffffff"/>
              </a:solidFill>
              <a:latin typeface="Arial"/>
            </a:endParaRPr>
          </a:p>
        </p:txBody>
      </p:sp>
      <p:sp>
        <p:nvSpPr>
          <p:cNvPr id="209"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What are some of the best practices in teaching reading and writing in a foreign langua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at is strategies-based instruction? Give two examp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flection: Building Learning Strategies</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flect on how learning strategies fit into your classroom and curriculum. How often do you talk about strategies with your ELLs? How often are they modeled and made explicit? How much guided practice are you providing students to try out strategies across the curriculum -- especially reading comprehension strategies? How often are learning strategies tied to relevant, high-interest, student-centered curriculu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ating Classroom Materials</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uring this session, you will create lesson plans based on the previous workshops on teaching reading and writing. </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o do</a:t>
            </a:r>
            <a:endParaRPr b="0" lang="en-US" sz="4400" spc="-1" strike="noStrike">
              <a:solidFill>
                <a:srgbClr val="ffff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1: Choose a reading/writing strategy, one of the best practices, or one of the other teaching activities you have learned in this workshop that you would like to incorporate into your teach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2: Find a partner who also wants to use this in his or her classro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3: Using the lesson plan template, you and your partner will create one lesson plan that integrates one or more of the instructional activities you have chosen. The example lesson plan handout gives you some ide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4: Using the Lesson Plan Rubric, evaluate your own lesson pla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5: Using the Lesson Plan Rubric, each pair of students should evaluate at least one other lesson plan created in the worksho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al 1</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1: Teachers will be able to define and identify best practices in teaching reading and writing in a foreign language</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2: Teachers will create lesson plans demonstrating best practices in teaching reading and writing in a foreign language</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600200"/>
            <a:ext cx="7772400" cy="2209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6: At the end of the workshop, share your lesson plans with your colleagues. Make copies for everyone in the workshop and present your work!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9" name="" descr=""/>
          <p:cNvPicPr/>
          <p:nvPr/>
        </p:nvPicPr>
        <p:blipFill>
          <a:blip r:embed="rId2"/>
          <a:stretch/>
        </p:blipFill>
        <p:spPr>
          <a:xfrm>
            <a:off x="4800600" y="3886200"/>
            <a:ext cx="914400" cy="914400"/>
          </a:xfrm>
          <a:prstGeom prst="rect">
            <a:avLst/>
          </a:prstGeom>
          <a:ln w="0">
            <a:noFill/>
          </a:ln>
        </p:spPr>
      </p:pic>
      <p:pic>
        <p:nvPicPr>
          <p:cNvPr id="220" name="" descr=""/>
          <p:cNvPicPr/>
          <p:nvPr/>
        </p:nvPicPr>
        <p:blipFill>
          <a:blip r:embed="rId3"/>
          <a:stretch/>
        </p:blipFill>
        <p:spPr>
          <a:xfrm>
            <a:off x="3124080" y="4191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2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flections</a:t>
            </a:r>
            <a:endParaRPr b="0" lang="en-US" sz="4000" spc="-1" strike="noStrike">
              <a:solidFill>
                <a:srgbClr val="ffffff"/>
              </a:solidFill>
              <a:latin typeface="Arial"/>
            </a:endParaRPr>
          </a:p>
        </p:txBody>
      </p:sp>
      <p:sp>
        <p:nvSpPr>
          <p:cNvPr id="222"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What are the three or four key concepts--the big ideas--you’ll be taking away from the workshop?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new strategies have you stuffed into your bag of teaching tricks to help ELLs with language developmen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nally, where do you go from here? More courses? More reading? More implementation and critical reflection on best practices in teaching English as a Foreign Languag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77560"/>
            <a:ext cx="8001000" cy="551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oal 2: </a:t>
            </a:r>
            <a:br>
              <a:rPr sz="4800"/>
            </a:br>
            <a:r>
              <a:rPr b="0" lang="en-US" sz="4800" spc="-1" strike="noStrike">
                <a:solidFill>
                  <a:srgbClr val="ffffff"/>
                </a:solidFill>
                <a:latin typeface="Arial"/>
              </a:rPr>
              <a:t>Teachers will assist students in improving their reading, writing and learning strategies in a foreign languag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al 2</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bjective 1: Teachers will be able to identify and define strategies-based methods of teaching and learning</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bjective 2: Teachers will practice using and creating strategies-based classroom material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f Learners</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ster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ptacle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w material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ents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ners </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 explorers </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cratic explorers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ighan, 199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f Teachers</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rce of rules for learning and classroom behavio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ositor of informa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ach</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ilitator</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earn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f Learning</a:t>
            </a: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antitative increase in knowledge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ization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quisition of facts and procedures which can be retained and/or used in practice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straction of meaning </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erpretative process aimed at the understanding of reality </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form of personal change </a:t>
            </a:r>
            <a:endParaRPr b="0" lang="en-US" sz="2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Gow and Kember, 1993</a:t>
            </a:r>
            <a:endParaRPr b="0" lang="en-US" sz="20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f Assessment</a:t>
            </a: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ations</a:t>
            </a:r>
            <a:endParaRPr b="0" lang="en-US" sz="32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s are right or wrong</a:t>
            </a:r>
            <a:endParaRPr b="0" lang="en-US" sz="32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taking is not encouraged</a:t>
            </a:r>
            <a:endParaRPr b="0" lang="en-US" sz="32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can be evaluated through student performance of real-world activity</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can participate in their own assessment</a:t>
            </a:r>
            <a:endParaRPr b="0" lang="en-US" sz="3200" spc="-1" strike="noStrike">
              <a:solidFill>
                <a:srgbClr val="ffffff"/>
              </a:solidFill>
              <a:latin typeface="Arial"/>
            </a:endParaRPr>
          </a:p>
          <a:p>
            <a:pPr marL="339480" indent="-3394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is a process, not a one-time snapshot</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8T17:19:43Z</dcterms:created>
  <dc:creator>College of Education</dc:creator>
  <dc:description/>
  <dc:language>en-US</dc:language>
  <cp:lastModifiedBy>caitlin halstead</cp:lastModifiedBy>
  <dcterms:modified xsi:type="dcterms:W3CDTF">2009-06-15T22:42:38Z</dcterms:modified>
  <cp:revision>41</cp:revision>
  <dc:subject/>
  <dc:title> Teaching Reading and Writing to English Language Learners </dc:title>
</cp:coreProperties>
</file>